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7.png" ContentType="image/png"/>
  <Override PartName="/ppt/media/bomb.wav" ContentType="audio/x-wav"/>
  <Override PartName="/ppt/media/image6.png" ContentType="image/png"/>
  <Override PartName="/ppt/media/image5.jpeg" ContentType="image/jpeg"/>
  <Override PartName="/ppt/media/cashreg.wav" ContentType="audio/x-wav"/>
  <Override PartName="/ppt/media/image13.jpeg" ContentType="image/jpeg"/>
  <Override PartName="/ppt/media/image12.png" ContentType="image/png"/>
  <Override PartName="/ppt/media/image11.png" ContentType="image/png"/>
  <Override PartName="/ppt/media/applause.wav" ContentType="audio/x-wav"/>
  <Override PartName="/ppt/media/image10.png" ContentType="image/png"/>
  <Override PartName="/ppt/media/chimes.wav" ContentType="audio/x-wav"/>
  <Override PartName="/ppt/media/image8.png" ContentType="image/png"/>
  <Override PartName="/ppt/media/gunshot.wav" ContentType="audio/x-wav"/>
  <Override PartName="/ppt/media/image1.png" ContentType="image/png"/>
  <Override PartName="/ppt/media/drumroll.wav" ContentType="audio/x-wav"/>
  <Override PartName="/ppt/media/image3.jpeg" ContentType="image/jpe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5E01-B55A-4673-A151-AC2F503E9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D10C-E0A2-4FE5-9F2D-ED4558FB0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C87B-C8F0-41D2-A13E-B1F0125AF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D9BC-FEC4-4842-B304-9FAF44812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21137-48FF-4830-A0E6-45217363F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6060B-AF81-4202-BB7C-22A1AE2A5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57245-C072-43F5-ADD4-CAC5CEE03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D9082-012B-4BE0-8E82-CDAF4FCEB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7C68A-2348-45DF-8303-D92B419D2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94975-18F9-4BAC-8580-821071476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0D7A2-3060-46FD-AD11-81CE389F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9E07-C66D-408D-BB78-235899397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0D1F5-874C-4EEC-A442-16173FC9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6B412-083F-4321-8A64-9E86EC58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08570-5286-445B-A9CF-50B65210D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2EE88-6EE8-44A6-86BC-2FB150FBF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6C6CF-0C13-4796-9849-DC774CB61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F363-8E1F-4826-8A5E-629BCF02B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D4E4-ACC3-4079-8E69-085BCA09C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B711-7DC1-40F2-AA12-064226A11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7162-8441-4B55-9DB4-C5970D427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B4CA-3AB8-4CC7-BFED-9BC1B516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E546-A3F7-43B3-8B45-B16FF5A9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690E-6085-4F93-98E2-99BD598E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4DF02-61A3-4D9C-8867-C7859446AA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47864-8B44-4D70-92C0-EA17AD1DB1F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ashreg.wav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emagazine.org/supparch/peoct04/ebursts/peoct4.jpg&amp;imgrefurl=http://www.memagazine.org/supparch/peoct04/ebursts/ebursts.html&amp;h=266&amp;w=355&amp;sz=15&amp;tbnid=3nuEA2-fSFd-sM:&amp;tbnh=87&amp;tbnw=117&amp;hl=en&amp;start=17&amp;prev=/im" TargetMode="External"/><Relationship Id="rId2" Type="http://schemas.openxmlformats.org/officeDocument/2006/relationships/hyperlink" Target="http://images.google.com/imgres?imgurl=http://www.memagazine.org/supparch/peoct04/ebursts/peoct4.jpg&amp;imgrefurl=http://www.memagazine.org/supparch/peoct04/ebursts/ebursts.html&amp;h=266&amp;w=355&amp;sz=15&amp;tbnid=3nuEA2-fSFd-sM:&amp;tbnh=87&amp;tbnw=117&amp;hl=en&amp;start=17&amp;prev=/im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images.google.com/imgres?imgurl=http://www.alincolnlearning.us/cabinlincolns.jpg&amp;imgrefurl=http://www.alincolnlearning.us/Inlincolnstime.html&amp;h=236&amp;w=449&amp;sz=18&amp;tbnid=-75-9AUtvXo-HM:&amp;tbnh=65&amp;tbnw=124&amp;hl=en&amp;start=1&amp;prev=/images%3Fq%3DLincoln%2527s%2B" TargetMode="External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bomb.wav"/><Relationship Id="rId3" Type="http://schemas.openxmlformats.org/officeDocument/2006/relationships/audio" Target="../media/gunshot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bomb.wav"/><Relationship Id="rId3" Type="http://schemas.openxmlformats.org/officeDocument/2006/relationships/audio" Target="../media/gunshot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bomb.wav"/><Relationship Id="rId3" Type="http://schemas.openxmlformats.org/officeDocument/2006/relationships/audio" Target="../media/gunshot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bbd71"/>
                </a:solidFill>
                <a:latin typeface="Cornerstone"/>
              </a:rPr>
              <a:t>Abraham Lincoln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-152640" y="4267080"/>
            <a:ext cx="9296280" cy="701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16</a:t>
            </a:r>
            <a:r>
              <a:rPr b="0" lang="en-US" sz="54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 Presiden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09 -186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Lincoln Memorial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82" name="Picture 5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3504960" cy="45306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ilt in 1922. The inscription behind Lincoln’s head reads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 this temple, as in the hearts of the people for whom he saved the Union, the memory of Abraham Lincoln is enshrined forever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5 Dollar Bill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Picture 7" descr="taxpix as 002"/>
          <p:cNvPicPr/>
          <p:nvPr/>
        </p:nvPicPr>
        <p:blipFill>
          <a:blip r:embed="rId1"/>
          <a:stretch/>
        </p:blipFill>
        <p:spPr>
          <a:xfrm>
            <a:off x="1905120" y="2590920"/>
            <a:ext cx="464796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Born February 12, 180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Grew up in a log cabin in Kentuck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Abe’s family moved to Indiana when he was 7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His mother, Nancy died when Abe was 9 years old, sister Sarah was 11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Their father remarried the next year.  Abe and Sarah loved their new stepmoth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Lincol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6" name="Picture 9" descr=""/>
          <p:cNvPicPr/>
          <p:nvPr/>
        </p:nvPicPr>
        <p:blipFill>
          <a:blip r:embed="rId6"/>
          <a:stretch/>
        </p:blipFill>
        <p:spPr>
          <a:xfrm>
            <a:off x="457200" y="1523880"/>
            <a:ext cx="403848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Abe was born in a log cabin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Rectangle 6">
            <a:hlinkClick r:id="rId1"/>
          </p:cNvPr>
          <p:cNvSpPr/>
          <p:nvPr/>
        </p:nvSpPr>
        <p:spPr>
          <a:xfrm>
            <a:off x="401472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Picture 5" descr="http://images.google.com/images?q=tbn:3nuEA2-fSFd-sM:www.memagazine.org/supparch/peoct04/ebursts/peoct4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3429000"/>
            <a:ext cx="8305560" cy="320040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10">
            <a:hlinkClick r:id="rId4"/>
          </p:cNvPr>
          <p:cNvSpPr/>
          <p:nvPr/>
        </p:nvSpPr>
        <p:spPr>
          <a:xfrm>
            <a:off x="398160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9" descr="http://images.google.com/images?q=tbn:-75-9AUtvXo-HM:www.alincolnlearning.us/cabinlincolns.jpg"/>
          <p:cNvPicPr/>
          <p:nvPr/>
        </p:nvPicPr>
        <p:blipFill>
          <a:blip r:embed="rId5"/>
          <a:stretch/>
        </p:blipFill>
        <p:spPr>
          <a:xfrm>
            <a:off x="4572000" y="1523880"/>
            <a:ext cx="4038480" cy="1997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1" descr="http://images.google.com/images?q=tbn:qOrvHGuswmLtOM:www.picturehistory.com/bin/dropshadow.cgi%3Fid%3D9487"/>
          <p:cNvPicPr/>
          <p:nvPr/>
        </p:nvPicPr>
        <p:blipFill>
          <a:blip r:embed="rId6"/>
          <a:stretch/>
        </p:blipFill>
        <p:spPr>
          <a:xfrm>
            <a:off x="380880" y="1457280"/>
            <a:ext cx="350532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Abe As a Tee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65" name="Picture 8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876920" y="15238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be learned to read and write by himself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spent about 1-2 years in schoo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ery night Abe took a book to bed and read by the light of a cand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borrowed books whenever he coul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Abe’s Adult Lif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 21, Abe moved to Illinois, at 22 he went on his ow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worked on a flatboat and in a general store.  People called him, “Honest Abe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e studied law books and became a lawy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met and married Mary Todd in 1842, who told him he would be president somed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Emancipation Proclamat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ncoln was President during the Civil Wa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Civil War was fought in the U.S. between the North and South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Civil War lasted 4 year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ncoln in 1863 issue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 Emancip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clamation to free the slav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40384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t Ford’s Theater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73" name="Picture 5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458200" cy="51051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Lincoln Gets Assassinated in Ford Theater, Washington D.C.on April 14, 1865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76" name="Picture 5" descr=""/>
          <p:cNvPicPr/>
          <p:nvPr/>
        </p:nvPicPr>
        <p:blipFill>
          <a:blip r:embed="rId1"/>
          <a:stretch/>
        </p:blipFill>
        <p:spPr>
          <a:xfrm>
            <a:off x="0" y="2171880"/>
            <a:ext cx="8915400" cy="445752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By John Wilkes Booth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4038480" cy="45309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257440" y="1599840"/>
            <a:ext cx="3429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ncoln died on April 15, 1865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was just beginning his second term of office as President of the United Stat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2T00:59:27Z</dcterms:created>
  <dc:creator>Andrew R. Perrong</dc:creator>
  <dc:description/>
  <dc:language>en-US</dc:language>
  <cp:lastModifiedBy>lyerkes</cp:lastModifiedBy>
  <dcterms:modified xsi:type="dcterms:W3CDTF">2013-02-12T19:04:59Z</dcterms:modified>
  <cp:revision>28</cp:revision>
  <dc:subject/>
  <dc:title>Abraham Lincoln</dc:title>
</cp:coreProperties>
</file>